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DC19-EC9F-405E-80D9-B2BAACD9C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FFEA-3A02-465D-99C6-457D12FD4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829-7A8B-47B7-A8D9-3804BBF3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525-E420-4589-AF71-7D7BBD57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3DB-D28A-4BEB-BC47-9912AFCF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67A-FC58-4F44-A7D9-A11A2DC6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E88-B6E4-437B-99F8-96193D08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2FD-D8FE-4262-BB21-C2E7754B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89A-3DD1-46A5-948B-0E24E6D1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A26-9CDD-4B36-8920-CED40D59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42E-708B-44FE-8CF7-F08E474A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5AC7-9FCD-4F67-8DAB-89AB630E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0AD2-63C9-436A-B3B5-702A10BA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0FE-A19A-47AD-B9C9-FAC61E88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E9DE-63C7-4803-ACA5-7A4B263A5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ania Elsanho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ania Elsanho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ania Elsanhoury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ania Elsanhour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ania Elsanhour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Rania. Yo vivo en New York .Tengo 14 años. Yo tengo una hermana y dos hermanos.  Yo soy muy calmad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             Mo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4008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¡Super! ¿Monica la maravillosa y Christy la lo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pueden ir a comer helado?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R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¡Buenos dias! ¡Yo quiero ir a comer helado!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Nos vemo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ablamos luego. Adios &lt;3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a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En serio quién quiere ir a comer helado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R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¡Hola mi lindas amigas! Yo puedo ir pero ella no puede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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Mo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www ¿por qué? ¿cuándo y dónde tú quieres verme?                                      R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ñana en la mancha en mi casa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Ciao nosotros nos vemos ahí                    Mo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209680" y="1905120"/>
            <a:ext cx="373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Hola bonitas! Yo tengo hambre. ¿Quién quiere ir a comer helado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73640" y="640080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9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1295280" cy="1565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9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457200" cy="552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9" descr=""/>
          <p:cNvPicPr/>
          <p:nvPr/>
        </p:nvPicPr>
        <p:blipFill>
          <a:blip r:embed="rId3"/>
          <a:stretch/>
        </p:blipFill>
        <p:spPr>
          <a:xfrm>
            <a:off x="2209680" y="3809880"/>
            <a:ext cx="457200" cy="55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4"/>
          <a:stretch/>
        </p:blipFill>
        <p:spPr>
          <a:xfrm>
            <a:off x="2133720" y="5181480"/>
            <a:ext cx="457200" cy="552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5"/>
          <a:stretch/>
        </p:blipFill>
        <p:spPr>
          <a:xfrm>
            <a:off x="2082960" y="3200400"/>
            <a:ext cx="660240" cy="49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6"/>
          <a:stretch/>
        </p:blipFill>
        <p:spPr>
          <a:xfrm>
            <a:off x="2057400" y="4495680"/>
            <a:ext cx="62064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1" descr=""/>
          <p:cNvPicPr/>
          <p:nvPr/>
        </p:nvPicPr>
        <p:blipFill>
          <a:blip r:embed="rId7"/>
          <a:stretch/>
        </p:blipFill>
        <p:spPr>
          <a:xfrm>
            <a:off x="2057400" y="5943600"/>
            <a:ext cx="62064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1" descr=""/>
          <p:cNvPicPr/>
          <p:nvPr/>
        </p:nvPicPr>
        <p:blipFill>
          <a:blip r:embed="rId8"/>
          <a:stretch/>
        </p:blipFill>
        <p:spPr>
          <a:xfrm>
            <a:off x="152280" y="5257800"/>
            <a:ext cx="533520" cy="458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0" descr=""/>
          <p:cNvPicPr/>
          <p:nvPr/>
        </p:nvPicPr>
        <p:blipFill>
          <a:blip r:embed="rId9"/>
          <a:stretch/>
        </p:blipFill>
        <p:spPr>
          <a:xfrm>
            <a:off x="762120" y="52578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2" descr=""/>
          <p:cNvPicPr/>
          <p:nvPr/>
        </p:nvPicPr>
        <p:blipFill>
          <a:blip r:embed="rId10"/>
          <a:stretch/>
        </p:blipFill>
        <p:spPr>
          <a:xfrm>
            <a:off x="1447920" y="5257800"/>
            <a:ext cx="533160" cy="442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3" descr=""/>
          <p:cNvPicPr/>
          <p:nvPr/>
        </p:nvPicPr>
        <p:blipFill>
          <a:blip r:embed="rId11"/>
          <a:stretch/>
        </p:blipFill>
        <p:spPr>
          <a:xfrm>
            <a:off x="152280" y="5943600"/>
            <a:ext cx="457200" cy="41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4" descr=""/>
          <p:cNvPicPr/>
          <p:nvPr/>
        </p:nvPicPr>
        <p:blipFill>
          <a:blip r:embed="rId12"/>
          <a:stretch/>
        </p:blipFill>
        <p:spPr>
          <a:xfrm>
            <a:off x="762120" y="59436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5:05Z</dcterms:created>
  <dc:creator>FriscoISD</dc:creator>
  <dc:description/>
  <dc:language>en-US</dc:language>
  <cp:lastModifiedBy>NYCDOE</cp:lastModifiedBy>
  <dcterms:modified xsi:type="dcterms:W3CDTF">2012-12-07T14:12:21Z</dcterms:modified>
  <cp:revision>106</cp:revision>
  <dc:subject/>
  <dc:title>Profile</dc:title>
</cp:coreProperties>
</file>